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7760" y="0"/>
            <a:ext cx="294768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71960" cy="372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7760" y="9442440"/>
            <a:ext cx="294768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EFC7509-BD26-4507-AE07-E8BFFF1B9146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857760" y="9442440"/>
            <a:ext cx="294768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FE776B4-953E-476C-83F8-329865962BFD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03240" y="747720"/>
            <a:ext cx="5002200" cy="37512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34920" y="4738320"/>
            <a:ext cx="4935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D0D3-208C-416D-9083-0F07AC171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3999-B17F-4E8F-888F-68982810F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91C3-FA38-4BA7-A3D6-4ED8B9E39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1309-070C-4329-A989-E7436A511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CDDD-ADF7-4E87-9E4E-C10A177EE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8151-126B-4EAF-8FB0-41207D686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0006-785F-4235-8709-5DC83144E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A0EB-7B68-4AD3-AAD7-285D819AC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E9F6-6F76-44D6-8AB9-3B69F3CEC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6EAC-D3CA-485F-AADF-79DC9BB11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F1ED-EBD5-4E6E-B529-8CF07F74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EF32-2C36-447E-A654-2F40AA7F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28AEB-8248-401F-A882-6D4A57AA66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75212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ベンチャー企業・新規事業の資金調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日本政策投資銀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ttp://www.dbj.go.j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富山事務所　岩崎 正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maiwasa@dbj.go.j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22880" y="3580920"/>
            <a:ext cx="2283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805720" y="262080"/>
            <a:ext cx="2534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とやま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ベンチャー協議会総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059A-D8C6-4FED-91D9-E6E3C7A84D4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8600" y="83808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ＶＣと銀行の基本的視点の違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191120" y="1371600"/>
            <a:ext cx="35812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666880" y="1600200"/>
            <a:ext cx="5715000" cy="762120"/>
          </a:xfrm>
          <a:prstGeom prst="wedgeRoundRectCallout">
            <a:avLst>
              <a:gd name="adj1" fmla="val -39027"/>
              <a:gd name="adj2" fmla="val 12562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・株式公開が（いつ）できるか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・十分な株価がつくか？　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876920"/>
            <a:ext cx="6248160" cy="1752480"/>
          </a:xfrm>
          <a:prstGeom prst="wedgeRoundRectCallout">
            <a:avLst>
              <a:gd name="adj1" fmla="val 36837"/>
              <a:gd name="adj2" fmla="val -5842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・利息が払えるか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・元本が返済できるか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　（長期）債務残高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÷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年間ＣＦ≒返済年数に問題はないか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　　　　　 収益構造は安定しているか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　（短期）資金繰りに問題はないか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・担保・保証があるか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２－</a:t>
            </a:r>
            <a:r>
              <a:rPr b="1" lang="en-US" sz="2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ベンチャーキャピタル（ＶＣ）と銀行 （２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419920" y="30009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ＶＣの基本的視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448600" y="42660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銀行の基本的視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3429000"/>
            <a:ext cx="2438280" cy="1295280"/>
          </a:xfrm>
          <a:prstGeom prst="cloudCallout">
            <a:avLst>
              <a:gd name="adj1" fmla="val 72592"/>
              <a:gd name="adj2" fmla="val -436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　成長性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　無ければ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553080" y="3048120"/>
            <a:ext cx="2286000" cy="1295280"/>
          </a:xfrm>
          <a:prstGeom prst="cloudCallout">
            <a:avLst>
              <a:gd name="adj1" fmla="val -60277"/>
              <a:gd name="adj2" fmla="val 4043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資金（ＣＦ）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回らなければ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DB7F-C7D9-4F1D-8AE0-875D0C2FF22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３－１ ビジネスプランの意義と目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経営者自身の頭の整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　　下準備、設計図、行程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行動指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　　事業進捗に伴って成否判断を行うための物差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経営陣・社員との鎹（かすがい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　　ビジネスはチームプレ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④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第三者へのプレゼンテーショ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　　特に資金提供者への主な説明材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C7E7-E82F-467C-BF53-6142DE07F28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３－２ ビジネスプラン作成のポイン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023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曖昧、抽象的（理想的）な思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ＭＳ Ｐゴシック"/>
              </a:rPr>
              <a:t>熱意・志を根底とした冷静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明確、具体的（現実的）な行動計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280" y="3657600"/>
            <a:ext cx="8991720" cy="32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 ① </a:t>
            </a: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明確性：必要事項を簡潔明瞭に記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 ② </a:t>
            </a: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具体性：可能な限りの計数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 ③ </a:t>
            </a: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現実性：客観的調査、具体的根拠、冷静な分析がなけ　　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　　 れば、他人は動かせない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057400" y="1371600"/>
            <a:ext cx="5029200" cy="243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9880" y="1905120"/>
            <a:ext cx="1524240" cy="1295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FA66-DBCD-4CA1-B155-C98B7CAED11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３－３ ビジネスプランの構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2438280"/>
            <a:ext cx="7619760" cy="1435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・ビジネスコンセプ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－　技術、商品（製品・サービス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－　業界・市場、消費者・顧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－　製造方法、営業戦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4038480"/>
            <a:ext cx="7619760" cy="1130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・経営（マネジメント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　－　経営陣、資本政策、経営組織、労務管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　－　スケジュー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5334120"/>
            <a:ext cx="76197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・利益計画・資金計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601992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・想定されるリス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114300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・要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1752480"/>
            <a:ext cx="76197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・ビジョン（背景、基本的価値観、目的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19920" y="2362320"/>
            <a:ext cx="2133360" cy="457200"/>
          </a:xfrm>
          <a:prstGeom prst="wedgeRoundRectCallout">
            <a:avLst>
              <a:gd name="adj1" fmla="val -89064"/>
              <a:gd name="adj2" fmla="val 7881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何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629400" y="2895480"/>
            <a:ext cx="2133720" cy="457200"/>
          </a:xfrm>
          <a:prstGeom prst="wedgeRoundRectCallout">
            <a:avLst>
              <a:gd name="adj1" fmla="val -102379"/>
              <a:gd name="adj2" fmla="val 63194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誰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629400" y="3429000"/>
            <a:ext cx="2133720" cy="457200"/>
          </a:xfrm>
          <a:prstGeom prst="wedgeRoundRectCallout">
            <a:avLst>
              <a:gd name="adj1" fmla="val -131324"/>
              <a:gd name="adj2" fmla="val 1423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どうやって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562720" y="3962520"/>
            <a:ext cx="2133360" cy="457200"/>
          </a:xfrm>
          <a:prstGeom prst="wedgeRoundRectCallout">
            <a:avLst>
              <a:gd name="adj1" fmla="val -93152"/>
              <a:gd name="adj2" fmla="val 3611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どうやって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629400" y="5181480"/>
            <a:ext cx="2133720" cy="533520"/>
          </a:xfrm>
          <a:prstGeom prst="wedgeRoundRectCallout">
            <a:avLst>
              <a:gd name="adj1" fmla="val -133703"/>
              <a:gd name="adj2" fmla="val 3779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どうやって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629400" y="5791320"/>
            <a:ext cx="2133720" cy="457200"/>
          </a:xfrm>
          <a:prstGeom prst="wedgeRoundRectCallout">
            <a:avLst>
              <a:gd name="adj1" fmla="val -133703"/>
              <a:gd name="adj2" fmla="val -8090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どうな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76920" y="6248520"/>
            <a:ext cx="1676160" cy="457200"/>
          </a:xfrm>
          <a:prstGeom prst="wedgeRoundRectCallout">
            <a:avLst>
              <a:gd name="adj1" fmla="val -97726"/>
              <a:gd name="adj2" fmla="val -3229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どうす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33920" y="990720"/>
            <a:ext cx="2590560" cy="457200"/>
          </a:xfrm>
          <a:prstGeom prst="wedgeRoundRectCallout">
            <a:avLst>
              <a:gd name="adj1" fmla="val -85847"/>
              <a:gd name="adj2" fmla="val 18437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なぜ、何のため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F2C1-1A5C-4F9B-AA87-06A5A31C892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152280"/>
            <a:ext cx="9144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金融機関の視点からの経験論的コメン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880920"/>
            <a:ext cx="9144000" cy="60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766800" indent="-766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マーフィーの法則</a:t>
            </a:r>
            <a:r>
              <a:rPr b="0" i="1" lang="ja-JP" sz="12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「うまくいかなくなる可能性のある事柄は必ずそうなる。」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 は</a:t>
            </a:r>
            <a:r>
              <a:rPr b="0" i="1" lang="ja-JP" sz="12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残念ながら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存在す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66800" indent="-766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　○リスクテイクと冒険は違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66800" indent="-766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　○「思い入れ」は必要不可欠、「思い込み」は禁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66800" indent="-766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　　　　・「べきだ」論は通じな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66800" indent="-766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　　　　・「唯一」と「随一」は違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66800" indent="-766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　　　　・製品や商品の価値は市場（買い手）が決め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66800" indent="-766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　　　　・「問い合わせ」は「商談」ではな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66800" indent="-766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　○技術者でも財務知識は必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66800" indent="-766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　○アドバイザー、パートナーが必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66800" indent="-766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　○説明は日本語で簡潔に、資料はコンパクト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66800" indent="-766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BD57-01D2-4A67-84D1-406D31C011A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 rot="10800000">
            <a:off x="2603520" y="1599840"/>
            <a:ext cx="6006960" cy="4648320"/>
          </a:xfrm>
          <a:prstGeom prst="rtTriangl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1600200"/>
            <a:ext cx="1676520" cy="48006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0" y="1600200"/>
            <a:ext cx="6172200" cy="4800600"/>
          </a:xfrm>
          <a:prstGeom prst="rtTriangle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581280" y="1672200"/>
            <a:ext cx="53341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ベンチャー企業・新規事業支援（出融資機能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　○融資・債務保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　○インキュベーションファンド　な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4110480"/>
            <a:ext cx="53341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産学行政協働の基盤づくり（情報提供機能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　○ＴＬＯ設立支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　○ビジネス教育支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　○国等の委員会・研究会等への参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　○フォーラムの開催　な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488160"/>
            <a:ext cx="9144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日本政策投資銀行（</a:t>
            </a:r>
            <a:r>
              <a:rPr b="0" i="1" lang="ja-JP" sz="3600" spc="-1" strike="noStrike">
                <a:solidFill>
                  <a:srgbClr val="000000"/>
                </a:solidFill>
                <a:latin typeface="Times New Roman"/>
              </a:rPr>
              <a:t>ＤＢＪ</a:t>
            </a:r>
            <a:r>
              <a:rPr b="1" lang="ja-JP" sz="36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）の支援機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8D06-D85B-4FBD-8CB6-1C73F8F5CCE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 rot="20700000">
            <a:off x="3427200" y="3718080"/>
            <a:ext cx="2388960" cy="1752480"/>
          </a:xfrm>
          <a:prstGeom prst="ellipse">
            <a:avLst/>
          </a:prstGeom>
          <a:solidFill>
            <a:srgbClr val="808080">
              <a:alpha val="50000"/>
            </a:srgbClr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352680"/>
            <a:ext cx="1371600" cy="30492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943600" y="1066680"/>
            <a:ext cx="1371600" cy="2286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-5812560" y="-4039560"/>
            <a:ext cx="12692880" cy="975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50858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508582"/>
              </a:path>
            </a:pathLst>
          </a:custGeom>
          <a:noFill/>
          <a:ln w="572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24080" y="1981080"/>
            <a:ext cx="2362320" cy="6426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知的財産権担保融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・債務保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2895480"/>
            <a:ext cx="3276720" cy="64260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新株予約権付融資・債務保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（以前はワラント債応募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77000" y="3809880"/>
            <a:ext cx="409320" cy="368280"/>
          </a:xfrm>
          <a:prstGeom prst="rect">
            <a:avLst/>
          </a:prstGeom>
          <a:noFill/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インキュベーション・ファン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009400" y="1143000"/>
            <a:ext cx="409320" cy="368280"/>
          </a:xfrm>
          <a:prstGeom prst="rect">
            <a:avLst/>
          </a:pr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一般融資・債務保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533520" y="990360"/>
            <a:ext cx="0" cy="4724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57150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60199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　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Seed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　　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Start-up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　　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Early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　　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Middle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　　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La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　　　　　　　　　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18600000">
            <a:off x="5402160" y="1668600"/>
            <a:ext cx="2589120" cy="1477800"/>
          </a:xfrm>
          <a:prstGeom prst="ellipse">
            <a:avLst/>
          </a:prstGeom>
          <a:solidFill>
            <a:srgbClr val="00ffff">
              <a:alpha val="50000"/>
            </a:srgbClr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5943600" y="2361960"/>
            <a:ext cx="1371600" cy="99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44600" y="8380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上場（株式公開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82760" y="19810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非上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19200000">
            <a:off x="4092120" y="3352320"/>
            <a:ext cx="2602080" cy="1160640"/>
          </a:xfrm>
          <a:prstGeom prst="ellipse">
            <a:avLst/>
          </a:prstGeom>
          <a:solidFill>
            <a:srgbClr val="ff0000">
              <a:alpha val="50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20100000">
            <a:off x="2814480" y="4327560"/>
            <a:ext cx="2428920" cy="992160"/>
          </a:xfrm>
          <a:prstGeom prst="ellipse">
            <a:avLst/>
          </a:prstGeom>
          <a:solidFill>
            <a:srgbClr val="ffcc99">
              <a:alpha val="50000"/>
            </a:srgbClr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9200000">
            <a:off x="4100040" y="3420720"/>
            <a:ext cx="3422880" cy="463680"/>
          </a:xfrm>
          <a:prstGeom prst="ellipse">
            <a:avLst/>
          </a:prstGeom>
          <a:solidFill>
            <a:srgbClr val="0000ff">
              <a:alpha val="50000"/>
            </a:srgbClr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21000000">
            <a:off x="455760" y="5117760"/>
            <a:ext cx="3120840" cy="825480"/>
          </a:xfrm>
          <a:prstGeom prst="ellipse">
            <a:avLst/>
          </a:prstGeom>
          <a:solidFill>
            <a:srgbClr val="339966">
              <a:alpha val="50000"/>
            </a:srgbClr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553080" y="3352680"/>
            <a:ext cx="1371600" cy="609840"/>
          </a:xfrm>
          <a:prstGeom prst="ellipse">
            <a:avLst/>
          </a:prstGeom>
          <a:solidFill>
            <a:srgbClr val="cc99ff">
              <a:alpha val="50000"/>
            </a:srgbClr>
          </a:solidFill>
          <a:ln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033040" y="35053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事業再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553880" y="2438280"/>
            <a:ext cx="1003680" cy="64260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コミュニテ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・クレジッ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235640" y="4114800"/>
            <a:ext cx="1278000" cy="368280"/>
          </a:xfrm>
          <a:prstGeom prst="rect">
            <a:avLst/>
          </a:prstGeom>
          <a:noFill/>
          <a:ln w="572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事業再生ファン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38680" y="5029200"/>
            <a:ext cx="2514600" cy="368280"/>
          </a:xfrm>
          <a:prstGeom prst="rect">
            <a:avLst/>
          </a:prstGeom>
          <a:noFill/>
          <a:ln w="5724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新規事業投資㈱　出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1216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企業の発展段階と出融資機能の対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8EDB-532B-4FA3-9716-0F72CE71582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「ベンチャー企業」向け融資①</a:t>
            </a:r>
            <a:br>
              <a:rPr sz="3600"/>
            </a:br>
            <a:r>
              <a:rPr b="1" lang="ja-JP" sz="3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（知的財産権担保融資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200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8000"/>
          </a:bodyPr>
          <a:p>
            <a:pPr marL="9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１．対象企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1828800"/>
            <a:ext cx="6858000" cy="198108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19320" y="5029200"/>
            <a:ext cx="32763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・新規事業（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新商品の生産または新たな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　役務）の提供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に必要となる資金（開発資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金、設備資金等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×5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％以内＝融資金額／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・融資金額１億円以内／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3886200"/>
            <a:ext cx="3124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２．融資資金の使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760" indent="-95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760" indent="-95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66680" y="4419720"/>
            <a:ext cx="3505320" cy="198108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86800" y="193212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いわゆる中小企業と相違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05880" y="454968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単なる運転資金は対象外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899480" y="51055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872960" y="4419720"/>
            <a:ext cx="607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融資期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225480" y="4419720"/>
            <a:ext cx="2207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原則として元本均等分割返済（５年以内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724280" y="5105520"/>
            <a:ext cx="91440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金　　　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929920" y="5105520"/>
            <a:ext cx="147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Libo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＋信用リスク相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固定金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724280" y="5818320"/>
            <a:ext cx="91440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担　　　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91320" y="5791320"/>
            <a:ext cx="33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知的財産権担保（特許権、プログラム著作権等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原則として経営者の個人保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27160" y="358128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20640"/>
            <a:ext cx="73152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・規模は問わな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・技術に関わる高度性、独自性、専業性、　積極性が認められること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・役務（サービス）に関わる高度性または　独自性、積極性が認められること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56AE-9F0E-4B47-84FF-C0659DC6466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「ベンチャー企業」向け融資②</a:t>
            </a:r>
            <a:br>
              <a:rPr sz="3600"/>
            </a:br>
            <a:r>
              <a:rPr b="1" lang="ja-JP" sz="32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新株予約権付融資（←ワラント債応募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１．対象企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　 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現時点では「権利化」可能な知的財産等は存在しないが、新規事業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成長性が認められる企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２．新株予約権の処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予約権行使は原則として行わな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予約権を分離して、当該ベンチャ－企業の意向も踏まえつつ、合理的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   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価格で第三者に売却（最終的にはＤＢＪの判断で売却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３．与信手続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新株予約権発行に伴う商法上の手続きが必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D155-098A-4C8D-A882-BBDDDF8A1D9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82560" y="738360"/>
            <a:ext cx="77742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11160" y="1652760"/>
            <a:ext cx="7012080" cy="44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1752480"/>
            <a:ext cx="769608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１．対象企業、資金使途、担保・保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　　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融資制度と同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２．保証範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　　（元本＋利息）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×80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　　　　か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本行与信（融資＋債務保証）額　＜　対象事業費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×80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３．保証料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　　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審査の上、信用リスクにより決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380880"/>
            <a:ext cx="7848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「ベンチャー企業」向け債務保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72C9-5061-4722-80FF-6F14F0F5B0B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51920"/>
            <a:ext cx="9144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日本政策投資銀行の概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56160" y="376380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991800"/>
            <a:ext cx="8534520" cy="55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ＭＳ Ｐゴシック"/>
              </a:rPr>
              <a:t>○</a:t>
            </a:r>
            <a:r>
              <a:rPr b="1" lang="en-US" sz="2000" spc="-1" strike="noStrike">
                <a:solidFill>
                  <a:srgbClr val="000000"/>
                </a:solidFill>
                <a:latin typeface="ＭＳ Ｐゴシック"/>
              </a:rPr>
              <a:t>1999</a:t>
            </a:r>
            <a:r>
              <a:rPr b="1" lang="zh-CN" sz="2000" spc="-1" strike="noStrike">
                <a:solidFill>
                  <a:srgbClr val="000000"/>
                </a:solidFill>
                <a:latin typeface="ＭＳ Ｐゴシック"/>
              </a:rPr>
              <a:t>年</a:t>
            </a:r>
            <a:r>
              <a:rPr b="1" lang="en-US" sz="2000" spc="-1" strike="noStrike">
                <a:solidFill>
                  <a:srgbClr val="000000"/>
                </a:solidFill>
                <a:latin typeface="ＭＳ Ｐゴシック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ＭＳ Ｐゴシック"/>
              </a:rPr>
              <a:t>月日本開発銀行と北海道東北開発公庫の業務を継承・発足し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ＭＳ Ｐゴシック"/>
              </a:rPr>
              <a:t>　政府系金融機関（職員数　</a:t>
            </a:r>
            <a:r>
              <a:rPr b="1" lang="en-US" sz="2000" spc="-1" strike="noStrike">
                <a:solidFill>
                  <a:srgbClr val="000000"/>
                </a:solidFill>
                <a:latin typeface="ＭＳ Ｐゴシック"/>
              </a:rPr>
              <a:t>1,370</a:t>
            </a:r>
            <a:r>
              <a:rPr b="1" lang="zh-CN" sz="2000" spc="-1" strike="noStrike">
                <a:solidFill>
                  <a:srgbClr val="000000"/>
                </a:solidFill>
                <a:latin typeface="ＭＳ Ｐゴシック"/>
              </a:rPr>
              <a:t>人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ＭＳ Ｐゴシック"/>
              </a:rPr>
              <a:t>○</a:t>
            </a:r>
            <a:r>
              <a:rPr b="1" lang="zh-CN" sz="2000" spc="-1" strike="noStrike">
                <a:solidFill>
                  <a:srgbClr val="000000"/>
                </a:solidFill>
                <a:latin typeface="ＭＳ Ｐゴシック"/>
              </a:rPr>
              <a:t>目 的（日本政策投資銀行法第１条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Ｐゴシック"/>
              </a:rPr>
              <a:t>　～</a:t>
            </a:r>
            <a:r>
              <a:rPr b="1" i="1" lang="zh-CN" sz="1800" spc="-1" strike="noStrike">
                <a:solidFill>
                  <a:srgbClr val="000000"/>
                </a:solidFill>
                <a:latin typeface="ＭＳ Ｐゴシック"/>
              </a:rPr>
              <a:t>経済社会の活力の向上及び持続的発展</a:t>
            </a:r>
            <a:r>
              <a:rPr b="0" lang="zh-CN" sz="18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1" i="1" lang="zh-CN" sz="1800" spc="-1" strike="noStrike">
                <a:solidFill>
                  <a:srgbClr val="000000"/>
                </a:solidFill>
                <a:latin typeface="ＭＳ Ｐゴシック"/>
              </a:rPr>
              <a:t>豊かな国民生活の実現</a:t>
            </a:r>
            <a:r>
              <a:rPr b="0" lang="zh-CN" sz="1800" spc="-1" strike="noStrike">
                <a:solidFill>
                  <a:srgbClr val="000000"/>
                </a:solidFill>
                <a:latin typeface="ＭＳ Ｐゴシック"/>
              </a:rPr>
              <a:t>並びに</a:t>
            </a:r>
            <a:r>
              <a:rPr b="1" i="1" lang="zh-CN" sz="1800" spc="-1" strike="noStrike">
                <a:solidFill>
                  <a:srgbClr val="000000"/>
                </a:solidFill>
                <a:latin typeface="ＭＳ Ｐゴシック"/>
              </a:rPr>
              <a:t>地域経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ＭＳ Ｐゴシック"/>
              </a:rPr>
              <a:t>　の自立的発展</a:t>
            </a:r>
            <a:r>
              <a:rPr b="0" lang="zh-CN" sz="1800" spc="-1" strike="noStrike">
                <a:solidFill>
                  <a:srgbClr val="000000"/>
                </a:solidFill>
                <a:latin typeface="ＭＳ Ｐゴシック"/>
              </a:rPr>
              <a:t>に資するため～我が国の経済社会政策に金融上の寄与をするこ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ＭＳ Ｐゴシック"/>
              </a:rPr>
              <a:t>○</a:t>
            </a:r>
            <a:r>
              <a:rPr b="1" lang="zh-CN" sz="2000" spc="-1" strike="noStrike">
                <a:solidFill>
                  <a:srgbClr val="000000"/>
                </a:solidFill>
                <a:latin typeface="ＭＳ Ｐゴシック"/>
              </a:rPr>
              <a:t>重点分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Ｐゴシック"/>
              </a:rPr>
              <a:t>　経済活力創造：事業再構築支援、新技術開発、新規起業支援な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Ｐゴシック"/>
              </a:rPr>
              <a:t>　豊かな生活創造：環境・エネルギー、交通・通信ネットワークなど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Ｐゴシック"/>
              </a:rPr>
              <a:t>　自立型地域創造：地域産業振興、地域社会資本整備な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ＭＳ Ｐゴシック"/>
              </a:rPr>
              <a:t>○</a:t>
            </a:r>
            <a:r>
              <a:rPr b="1" lang="zh-CN" sz="2000" spc="-1" strike="noStrike">
                <a:solidFill>
                  <a:srgbClr val="000000"/>
                </a:solidFill>
                <a:latin typeface="ＭＳ Ｐゴシック"/>
              </a:rPr>
              <a:t>業務内容（機能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0" lang="zh-CN" sz="1800" spc="-1" strike="noStrike">
                <a:solidFill>
                  <a:srgbClr val="000000"/>
                </a:solidFill>
                <a:latin typeface="ＭＳ Ｐゴシック"/>
              </a:rPr>
              <a:t>長期資金の供給（出融資・保証・社債の応募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Ｐゴシック"/>
              </a:rPr>
              <a:t>　プロジェクト（事業）形成支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Ｐゴシック"/>
              </a:rPr>
              <a:t>　広汎な情報提供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ＭＳ Ｐゴシック"/>
              </a:rPr>
              <a:t>○</a:t>
            </a:r>
            <a:r>
              <a:rPr b="1" lang="zh-CN" sz="2000" spc="-1" strike="noStrike">
                <a:solidFill>
                  <a:srgbClr val="000000"/>
                </a:solidFill>
                <a:latin typeface="ＭＳ Ｐゴシック"/>
              </a:rPr>
              <a:t>新規事業・ベンチャー支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Ｐゴシック"/>
              </a:rPr>
              <a:t>　知的所有権、新株引受権を活用した融資・債務保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Ｐゴシック"/>
              </a:rPr>
              <a:t>　ベンチャーファンド組成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Ｐゴシック"/>
              </a:rPr>
              <a:t>　大学ＴＬＯ設立・運営支援、起業論講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4E80-E470-4D31-9C90-FC0C6B7C717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304920" y="1143000"/>
          <a:ext cx="8610480" cy="518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143000"/>
                    <a:ext cx="86104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0" y="2739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「ベンチャー企業」向け与信実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C105-4A99-48F5-A5E8-76105DAF443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304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ハンズオン型「インキュベーション・ファンド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990720" y="1218960"/>
            <a:ext cx="0" cy="4724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594360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6140880"/>
            <a:ext cx="807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　　シード　　　　スタートアップ　　　　　　　　　　アーリー　　　　　　　　　　ミドル　　　　　　　　　　　レイタ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-5047200" y="-2439360"/>
            <a:ext cx="12952800" cy="8381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069" y="25"/>
                </a:moveTo>
                <a:arcTo wR="10800" hR="10800" stAng="-5632774" swAng="5632774"/>
                <a:lnTo>
                  <a:pt x="10800" y="10800"/>
                </a:lnTo>
                <a:close/>
              </a:path>
              <a:path fill="none" w="21600" h="21600">
                <a:moveTo>
                  <a:pt x="10069" y="25"/>
                </a:moveTo>
                <a:arcTo wR="10800" hR="10800" stAng="-5632774" swAng="5632774"/>
              </a:path>
            </a:pathLst>
          </a:custGeom>
          <a:noFill/>
          <a:ln w="5724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1447920"/>
            <a:ext cx="4647960" cy="1676160"/>
          </a:xfrm>
          <a:prstGeom prst="ellipse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rot="19800000">
            <a:off x="5076720" y="2927160"/>
            <a:ext cx="3559320" cy="1469880"/>
          </a:xfrm>
          <a:prstGeom prst="ellipse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607480" y="167544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インキュベーション・ファンドの対象領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356880" y="3045600"/>
            <a:ext cx="14151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従来の多くのＶＣ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ファンドの投資領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05120" y="3809880"/>
            <a:ext cx="685800" cy="1981440"/>
          </a:xfrm>
          <a:prstGeom prst="downArrow">
            <a:avLst>
              <a:gd name="adj1" fmla="val 46296"/>
              <a:gd name="adj2" fmla="val 162773"/>
            </a:avLst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0880" y="2286720"/>
            <a:ext cx="5264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シーズ発掘、ビジネスプラン策定、経営チーム組成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特許管理、資金調達、マーケティング、事業提携支援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82640" y="33519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 u="sng">
                <a:solidFill>
                  <a:srgbClr val="3333ff"/>
                </a:solidFill>
                <a:uFillTx/>
                <a:latin typeface="Times New Roman"/>
                <a:ea typeface="ＭＳ ゴシック"/>
              </a:rPr>
              <a:t>設立新株投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3809880"/>
            <a:ext cx="2438280" cy="1600200"/>
          </a:xfrm>
          <a:prstGeom prst="downArrow">
            <a:avLst>
              <a:gd name="adj1" fmla="val 58111"/>
              <a:gd name="adj2" fmla="val 44741"/>
            </a:avLst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789360" y="33519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 u="sng">
                <a:solidFill>
                  <a:srgbClr val="3333ff"/>
                </a:solidFill>
                <a:uFillTx/>
                <a:latin typeface="Times New Roman"/>
                <a:ea typeface="ＭＳ ゴシック"/>
              </a:rPr>
              <a:t>追加投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C872-CFB9-48E9-9C11-15C26B55FEC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80880" y="15228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「ＤＢＪ・ＮＢＩインキュベーション・ファンド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24080" y="4114800"/>
            <a:ext cx="3048120" cy="533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投資事業有限責任組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62120" y="2057400"/>
            <a:ext cx="11430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民間企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514600" y="2057400"/>
            <a:ext cx="30481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新規事業投資㈱（ＮＢＩ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2057400"/>
            <a:ext cx="2819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民間企業等（複数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2280" y="2895480"/>
            <a:ext cx="243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無限責任組合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（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GP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：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General Partner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514600" y="1295280"/>
            <a:ext cx="3048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日本政策投資銀行（</a:t>
            </a:r>
            <a:r>
              <a:rPr b="1" i="1" lang="ja-JP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ＤＢＪ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52280" y="3581280"/>
            <a:ext cx="243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※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ファンド・マネジャ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00400" y="8380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※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アレンジャ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038480" y="1676520"/>
            <a:ext cx="0" cy="3808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038480" y="27432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05120" y="2743200"/>
            <a:ext cx="17524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5715000" y="2743200"/>
            <a:ext cx="1905120" cy="1295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14800" y="281952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有限責任組合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（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LP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：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Limited Partner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3048120"/>
            <a:ext cx="19047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19520" y="3048120"/>
            <a:ext cx="15238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2590560" y="2819160"/>
            <a:ext cx="228600" cy="228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8153280" y="2819160"/>
            <a:ext cx="152640" cy="228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91120" y="36576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50</a:t>
            </a:r>
            <a:r>
              <a:rPr b="0" lang="ja-JP" sz="16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～</a:t>
            </a:r>
            <a:r>
              <a:rPr b="0" lang="ja-JP" sz="16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70</a:t>
            </a:r>
            <a:r>
              <a:rPr b="0" lang="ja-JP" sz="16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％程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294800" y="473904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※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「中小企業等投資事業有限責任組合契約に関する法律」（有責法）に基づくファン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295280" y="5943600"/>
            <a:ext cx="198144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ベンチャー企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657600" y="5943600"/>
            <a:ext cx="198108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ベンチャー企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19920" y="5943600"/>
            <a:ext cx="198108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ベンチャー企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2666520" y="5105520"/>
            <a:ext cx="121932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648320" y="510552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410080" y="5105520"/>
            <a:ext cx="121932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339000" y="5271840"/>
            <a:ext cx="24973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ハンズオン型：投資（出資等）と経営指導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5CB6-B7CC-41AF-ABEF-34F46BAAF5D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「ＤＢＪ・ＮＢＩインキュベーション・ファンド」一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457200" y="838080"/>
          <a:ext cx="8229600" cy="5791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838080"/>
                    <a:ext cx="822960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C7EA-530F-4565-9F7E-EA7F3D172BC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152280"/>
            <a:ext cx="914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「大学ファンド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（大学発ベンチャー・インキュベーション・ファンド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24080" y="4114800"/>
            <a:ext cx="3048120" cy="533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投資事業有限責任組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62120" y="2057400"/>
            <a:ext cx="11430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民間企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514600" y="2057400"/>
            <a:ext cx="30481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日本政策投資銀行（</a:t>
            </a:r>
            <a:r>
              <a:rPr b="1" i="1" lang="ja-JP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ＤＢＪ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562720" y="2057400"/>
            <a:ext cx="2819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民間企業等（複数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2280" y="2895480"/>
            <a:ext cx="243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無限責任組合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（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GP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：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General Partner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2280" y="3581280"/>
            <a:ext cx="243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※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ファンド・マネジャ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00400" y="16002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※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アレンジャ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27432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905120" y="2743200"/>
            <a:ext cx="17524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5715000" y="2743200"/>
            <a:ext cx="1905120" cy="1295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114800" y="281952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有限責任組合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（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LP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：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Limited Partner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248520" y="3048120"/>
            <a:ext cx="19047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819520" y="3048120"/>
            <a:ext cx="15238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2590560" y="2819160"/>
            <a:ext cx="228600" cy="228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8153280" y="2819160"/>
            <a:ext cx="152640" cy="228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91120" y="36576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50</a:t>
            </a:r>
            <a:r>
              <a:rPr b="0" lang="ja-JP" sz="16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％以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294800" y="473904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※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「中小企業等投資事業有限責任組合契約に関する法律」（有責法）に基づくファン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95280" y="5943600"/>
            <a:ext cx="198144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ベンチャー企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657600" y="5943600"/>
            <a:ext cx="198108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ベンチャー企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19920" y="5943600"/>
            <a:ext cx="198108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ベンチャー企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2666520" y="5105520"/>
            <a:ext cx="121932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648320" y="510552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410080" y="5105520"/>
            <a:ext cx="121932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339000" y="5271840"/>
            <a:ext cx="24973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ハンズオン型：投資（出資等）と経営指導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AF17-10C7-4B9C-B540-26DBFC7D108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「大学ファンド」一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533520" y="914400"/>
          <a:ext cx="8153280" cy="533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914400"/>
                    <a:ext cx="815328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A710-AF7E-43B1-BD67-081D3B8660D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内　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 </a:t>
            </a:r>
            <a:r>
              <a:rPr b="1" lang="zh-CN" sz="2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１．新規事業・ベンチャー企業の類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　２．資金調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2 - 1</a:t>
            </a:r>
            <a:r>
              <a:rPr b="1" lang="zh-CN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　成長段階と所要資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　　 </a:t>
            </a:r>
            <a:r>
              <a:rPr b="1" lang="en-US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2 - 2</a:t>
            </a:r>
            <a:r>
              <a:rPr b="1" lang="zh-CN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　資金の性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2 </a:t>
            </a:r>
            <a:r>
              <a:rPr b="1" lang="zh-CN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ｰ </a:t>
            </a:r>
            <a:r>
              <a:rPr b="1" lang="en-US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3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資金調達の意義と制約</a:t>
            </a:r>
            <a:r>
              <a:rPr b="1" lang="zh-CN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　　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2 - 4</a:t>
            </a:r>
            <a:r>
              <a:rPr b="1" lang="zh-CN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　ベンチャーキャピタル（</a:t>
            </a:r>
            <a:r>
              <a:rPr b="1" lang="en-US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VC</a:t>
            </a:r>
            <a:r>
              <a:rPr b="1" lang="zh-CN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）と銀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　３． ビジネスプラ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3 - 1</a:t>
            </a:r>
            <a:r>
              <a:rPr b="1" lang="zh-CN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　意義と目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3 - 2</a:t>
            </a:r>
            <a:r>
              <a:rPr b="1" lang="zh-CN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　作成のポイン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3 - 3</a:t>
            </a:r>
            <a:r>
              <a:rPr b="1" lang="zh-CN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　構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４．経験論的コメン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３． 金融機関の視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D15B-3F7C-48BA-8C2B-C578FC402FD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763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．新規事業・ベンチャー企業の類型（１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1143000"/>
            <a:ext cx="889308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１：ハイテク型 ：バイオ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な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indent="26676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世界市場での競争においてディファクトスタンダード追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indent="26676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最先端分野での勝ち抜き戦において、技術・権利は特許などで保護し、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indent="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独立性を保ちつつ大企業と提携・ライセンシン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indent="26676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将来は大企業に成長もしくは大企業に高値で売却しうるが、ハイリス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２：技術改良型 ：生産財、中間製品な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indent="26676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生業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V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からの脱皮、大企業からの中堅技術者の独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indent="26676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現場ニーズの熟知、小回りの利く改良技術が基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indent="26676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大化けの可能性は小さく成長速度も遅いが、リスクも相対的に低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３：既存技術応用・組合せ型：インターネット、マルチメディア関連な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indent="26676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ニーズに合致すれば大当たりするが、ニーズ把握・市場開発が難しく、   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indent="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リスクは高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63680" y="1149480"/>
            <a:ext cx="844524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14A3-578F-46F7-BEE8-B288EC77809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066680"/>
            <a:ext cx="9448920" cy="53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85760">
              <a:spcBef>
                <a:spcPts val="6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４：ﾊﾟｯｹｰｼﾞｿﾌﾄ等開発型：業務用ﾊﾟｯｹｰｼﾞｿﾌﾄ、ﾀﾞｲｵｷｼﾝ対策炉な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千差万別。参入障壁は比較的低いが、収益性の事前評価が難し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既存大企業との競争にも直面、大型開発はリスク大　　　　　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>
              <a:spcBef>
                <a:spcPts val="1500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５：アイデア勝負型：たまごっち、プリクラな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当たれば大きいが、ブームが去るときの引き際が重要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通常２匹目のドジョウはいな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>
              <a:spcBef>
                <a:spcPts val="1500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６：経営ﾉｳﾊｳ型：新型流通業、ﾍﾙｽｹｱ、ｱｳﾄｿｰｼﾝｸﾞｻｰﾋﾞｽな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千差万別。アイデアと経営者の資質がとりわけ重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>
              <a:spcBef>
                <a:spcPts val="1500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７：生業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自己資金でまずは独立。　事業計画は走りながら考え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第二ステップで計画性のあるＶＢを目指す。ただし焦りは禁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7360" y="1149480"/>
            <a:ext cx="8445600" cy="50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61520" y="258480"/>
            <a:ext cx="922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．新規事業・ベンチャー企業の類型（２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7EE8-49D8-4282-866D-ED8D0B6FB3D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0" y="0"/>
          <a:ext cx="9055080" cy="64533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55080" cy="645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B28E-3596-4935-8C35-71BAD7F62EB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２－２ 資金（出資、融資、補助金）の性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533520" y="917640"/>
          <a:ext cx="8259480" cy="628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917640"/>
                    <a:ext cx="8259480" cy="628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445F-E6CE-43D5-974A-95E73CE4F9F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0" y="990360"/>
            <a:ext cx="9144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事業拡大の速度を高めるためは外部資金が必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但し、外部からの資金調達はビジネスそのも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資金提供者が、「価値観や目的に適う」と思うことが先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法的・社会的な権利義務関係が発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→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資金提供者からの期待や要求に応え、義務は履行しなけれ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　 ならな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それが納得できない又は我慢できない場合は、外部資金調達はすべきでな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２－３ 資金調達の意義と制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8FF9-283C-4913-9170-91E2FB11BE9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533520" y="837720"/>
            <a:ext cx="815328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資金の出し手の利益は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ＶＣ（出資）にとっては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・株式売却によるキャピタルゲイン（値上り益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・株式保持による配当収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銀行（融資）にとっては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・貸付、債務保証による金利、保証料収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→利鞘が薄く、不良債権化しないことが前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２－４ ベンチャーキャピタル（ＶＣ）と銀行（１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D4C0-9ADC-4459-ADC7-2AFE1B16646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1T05:01:05Z</dcterms:created>
  <dc:creator>hi_sakam</dc:creator>
  <dc:description/>
  <dc:language>en-US</dc:language>
  <cp:lastModifiedBy>ma_iwasa</cp:lastModifiedBy>
  <cp:lastPrinted>2003-05-21T01:34:03Z</cp:lastPrinted>
  <dcterms:modified xsi:type="dcterms:W3CDTF">2003-06-27T04:49:16Z</dcterms:modified>
  <cp:revision>44</cp:revision>
  <dc:subject/>
  <dc:title>融資の立場から見たベンチャー企業 （第３回中経連ベンチャーセミナー）</dc:title>
</cp:coreProperties>
</file>